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D448B-17A3-4369-95E9-BC4D4CB21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14E30-6334-41F5-A063-D5BD4748A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8CB50-FC22-4922-93DF-8711DA050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89C20-F902-4F02-A754-031B69031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4737F-3AAE-4428-A1BC-7C79AC85C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AE8AE-5D08-4041-A865-E131D6F84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D912B-6970-4F76-B680-A52606E38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6D864-FF91-40DB-BD70-C7B2EB112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3B696-5564-4052-8205-C1D778032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760F9-80E1-40F6-9C78-76B9324EF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42211-C846-4AED-98A9-BA7280E01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23E-F023-43C4-9366-A4C4CCC2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4A3-7F2D-4BB7-819F-46C38DEC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2DE01-1759-48CC-A1D1-E1B730BB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4A938-3515-4964-86C0-D89D781F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51FEB-F381-4FCC-BFE5-E8FDE4CE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DFC53-3EA8-48E2-AE46-D8CB4B3B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0169D-F3CA-4203-A3C2-63627DDB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E4AE9-0C76-412F-9EDF-88040E85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E0DDD-BC96-467D-A638-9E5E13FA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8EDF6-A21C-4F5D-ABDA-9BC195C7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AFB5F-78A7-4FDC-81BE-F49C3DF8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FF938-8F5F-4BAA-B4AA-47BFAAA7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E20-83B8-4A83-A995-579AF1E5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4556B-E075-464B-ABAB-91595059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A72FC-3F9B-4F3C-A41E-293CA06F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457CC-C809-4313-B3DA-4E450848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AD4B6-A82C-422C-BBDE-14EFDC42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8008A-2B5E-489B-AE2F-D40F9843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B6E90-B0F9-4ABF-AE0D-FCB59B58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55A2D-859B-4F3D-A049-1253FE13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99BBF-D23F-4F08-A23A-24B50189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DC72F-075B-4003-8559-030191AB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5F023-1A41-4B53-ACED-DD50C870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8C3-AC76-4EF1-BDF8-EB8F810E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A026A-7BB8-43A5-AA3A-9880E158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B6598-9E90-4BB0-86B1-5359227D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B0A7B-5720-401F-A503-0C12E999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95149-B439-46C4-AC9E-6C197EC2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781C6-0646-4702-B4D0-72BAFB4B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201A2-8B63-4BAF-84B3-5069CAE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5D40E-482F-4013-A61B-311908CE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226AE-5A4C-4CF5-842A-45056B3E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2E02A-39CC-41EA-BF15-FADF4804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0A273-AFF6-4E6A-8DE9-A3D14EB2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BCC2-D20C-4135-AC8C-C06ABB62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FF867-0044-4535-B2F6-9CD153C8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96699-25E7-464C-8DC3-05C8E090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B4C25-88BF-4448-BCF1-C160215A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5A8F6-1FA3-48F5-80DA-1C2EB164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FC2FF-B252-4D4D-A849-560A347A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A2A17-5EE4-4BBB-B102-6B098EBA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73636-751E-4B31-8B7F-37B29CFA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524AD-E67D-4606-AE2E-B3AB228C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6D5BE-B06C-4C2A-A74C-A51929F0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C11BD-BF70-4523-BE20-067A7442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A360-D559-4071-8403-9DCDD295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AFAA8-6621-440A-96A6-3F98AD92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BE122-AF13-49B8-94C5-92320AF4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42CB6-7418-4899-BF8D-7AFDEDA4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1BDA3-A2A2-4F57-AEB4-2831244C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6F921-6417-4241-AD28-F68FC374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BDCD-6D35-49BC-BE22-C03E575C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8524-73B4-4E6E-A75E-21C7112E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9DAB-2A01-424B-BA58-0BF11C8B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B100-9F0D-46D1-AC6A-ADE849CC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1794-6A5D-4795-A00C-B08D070F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481-7D03-4714-8C53-E187EF6D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4D52-78E3-4B84-ADFC-AB6D49D7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8FCE-A982-42AB-ABF3-02140895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4A39-A477-4A06-A498-0E24752C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523D-FD99-40F7-840F-4BDD00BC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1878-7917-4FD7-9125-B7DEBED8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92CF-F5B1-449E-9E30-340DC290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D14A-E78B-4837-A431-F16AE765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ABA7-E41B-4510-87F6-0AC6502D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91C5-9694-4009-95B3-16BA4887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32B8-6398-4FAC-A20B-8A4E4182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F9E-0DBF-44DD-9CDC-668CF58D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B3C9-193C-4A47-811D-B0255449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6FA2-68F7-4070-AEF7-25B8627D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C8398-836A-43F4-824F-13909104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38FBB-8DD5-45AF-A9B8-49357C33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CDE1-993E-476E-8808-9B4F3751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8FAD-B611-493A-94C9-40421388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1C73-550A-4182-AD64-59A08D1D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76B5-DD90-4A9E-9636-37E9613E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BAA97-744B-46B5-A8B9-8DE29760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2E6F-592D-414B-92A4-5C6A593A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6BD-EE09-4919-A650-1837C5FB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3EB17-73A2-4BB3-B85A-FE39E140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82382-8B71-4E5D-AA89-8E4EAD97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E815A-7C06-4E6E-B4F1-55EBB6ED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21233-0B2A-44AE-9E61-7665818F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0972-E91F-4E4B-992E-22F292CD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C203-FC57-4C0F-AEDD-58768381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0C09-846D-4F87-9D51-6DC3ED52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7A219-ACCC-41A8-9A6F-27BE5AB3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9F298-D6BD-4DFB-A36F-47A33C1D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F6334-6604-49F8-A0A6-66888F61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257-82EE-4FCC-B0A1-9088F5EF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36B72-FE32-4AEF-B4A8-35283BF2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520B-FC57-4030-9A79-66019080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41D80-8AD6-430D-8FE0-09F7444E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949A-DD52-457B-84EA-6D550ED0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2ED4-EA1C-41CB-A8E6-7A914103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02FCD-6FCE-4C1D-8EEF-711ACF23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9EA90-5B15-43E8-A683-5FCCF510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A1CDF-501B-4B2B-8FA1-D8C3370F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3CA46-293D-4137-9669-54D23EC5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2A3D3-ACFA-4B3F-A2CB-C9AD2200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7D2-0F2B-4E73-9BB1-4C8692B6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3D8BC-4F0D-4931-B2C4-0AFD8F63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A277-FCCE-474F-8718-A2ED3656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2F98B-9723-456E-A6FC-646CDE96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A0C8B-5D36-4978-8B33-7E5D96DB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7AAE0-8792-4E80-B2DE-1D855C7F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89BB-DDFC-4C0E-86D4-34840DE6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21C64-CC4D-4732-89B3-68D18859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B32A8-EBA3-4250-804F-E9B97096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E79C4-A2AC-40F0-B092-B400D781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70587-925F-44E2-A8A3-A80ED169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4A0-D12B-43A8-8B7A-E99C1D15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67D5E-5871-4A50-B08C-566AF31C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60FD7-D6E1-4DDF-9F6C-F39E43F3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E9D14-7CEA-4496-9B8D-2C0A5EF0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13FAC-97F8-4FEB-AF4E-3A63BC17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B1BAF-F355-48D0-976C-020B9A12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5793F-0BAD-42D8-A680-F34D41E4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54342-C1E5-4C8B-8F1D-1A740A32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77A94-2766-4FD7-B370-D2003831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CE261-39E0-459C-9FCD-9E5A0C19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E4BF3-601B-46AE-924D-16105926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A2F-51D8-4988-B14F-B3BE2201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1075F-E9EC-462A-A0BB-34289BE1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BAB41-9051-45CB-9F3E-CE2D687E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DE322-C46A-465E-8291-64F30786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F1070-3870-419A-AB2D-86E72EA7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F027A-0A47-489B-91DA-CA0350D4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C5EE5-F276-4B2A-BCF3-337C5F0E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1FB0E-01F0-4936-A4DA-0B14998A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3A680-A3D0-484B-AF43-032D9C8B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4000B-6FD1-4E46-8FE1-1C91FA6F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D84DB-36DD-4630-9DC1-39A30ACE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C5C-BC61-479F-A6C5-92AF34E3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20924-D145-4400-B16D-A14BE60F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B93A5-97D8-47BA-9E4B-7B303601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CDDAC-29A6-44F8-9CFA-94A8C76F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21CB8-DA14-4004-A27B-FAD425EE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E3D6F-88C3-4A24-9F75-E311CF8D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966E4-1E9C-4BB1-893C-A53FC431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FBE25-8F26-45A2-95C4-39D2AB57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16E0D-A536-416C-9F56-D82E8CE4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D8990-21FD-44A1-A902-F473836A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5FE35-BD04-400C-88E7-928512A1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1365C-8631-410B-9A6B-34DDA82174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55001-4BF8-4304-84C1-AFD61BB9D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33035585-8BEE-487D-B225-C72BA7E1A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AA20E-3D58-448A-8FD5-2320A9ADD3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13B7E-9448-4D25-B8DD-36518A303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982B1-8E38-4309-A6ED-BDABC456998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2C0F0-96F9-4C7D-9464-290EFF308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BC357-A849-4409-B9E1-E34669A43F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970A0-B878-4B3C-9298-9C43548BF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87BCB-BDDC-48C8-9CBC-3EE0F024E6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7260A-A25E-42F2-ADEC-854DC7647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4FBE9-E5DC-49D2-9F9B-57DB160DE8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2B1B6-519E-4329-BCF8-FB54925F9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D36D8-15AC-47FC-AE6E-C706858472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2D7A3-2596-468D-85FC-638F76122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67CB1-FF4E-4F82-BAC3-8980E0F7EE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949EE-5F4E-436F-9BA1-B6961CDEF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61275-2961-48EF-85C5-686D7B4527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88959-7B01-4D16-949D-6357ED4BE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54CBA-2078-4C4A-9A70-EAA1FC2100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CA7B3-3A29-450A-8F54-65462125A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1484B-B616-4D77-9371-DC374C37DE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A7757-8410-42EB-B563-DE58FCB09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9D344-6381-4519-B689-ACBB613E77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0CF82-2A1B-4BF2-8DC1-13EB2A1A6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8443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Pravidla realizace projektu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Ukončení projektu v jiném režim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Řízení o odnětí podpo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Řízení o odnětí podpory může být zahájeno pokud došlo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 vázání prostředků státního rozpoč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e zjištění, že poskytnuté údaje jsou neúplné či nepravdivé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 vydání právního aktu v rozporu se zákonem či právem ES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 situaci, že může být řádně či včas splněn účel dotac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04472-5A88-4935-AD44-8EC85C9EC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ostupy při oslovování cílových skupi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varovat se diskreditace cílové skupiny či projektu samotného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Helvetica CE"/>
              </a:rPr>
              <a:t>V případě, že zástupci cílové skupiny budou v průběhu projektu příjemcem nebo jeho partnery průběžně oslovováni - zajistit souhlas zástupců cílových skupin se zasíláním dodatečných informací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77A2C-4F41-4781-BA87-50775528E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Ochrana osobních údaj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252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 je povinen postupovat v souladu se zákonem č.101/2000 Sb., o ochraně osobních údaj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252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Individuální projekty dále platí zákon č. 218/2000 Sb. o rozpočtových pravidlech - 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z toho důvodu se na zpracování osobních údajů příjemcem podpory pro účely projektů nevztahuje oznamovací povinnost podle § 16 zákona č. 101/2000 Sb., o ochraně osobních údajů  tzn. není povinnost oznámit zpracovávání osobních údajů Úřadu pro ochranu osobních údajů před započetím zpracovávání těchto údajů.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45252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skytovatel dotace vydá písemné rozhodnutí formou právního aktu, který zavazuje příjemce k naplňování monitorovacích indikátorů a jejich dokladován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CE57C-B841-4407-B8B1-7D8B362BE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71600" y="1249200"/>
            <a:ext cx="6283440" cy="6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371600" y="2565360"/>
            <a:ext cx="6283440" cy="31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roč a jak se zabývat monitorovacími indikáto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Monitorovací indikátory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součástí monitorovací zprávy projektu. Plánovanou hodnotu MI projektu si každý příjemce stanovil při zpracování projektové žádosti. Uzavřením právního aktu se MI stávají závaznými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Dosažené hodnoty MI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se uvádějí kumulativně tzn. za celou dobu realizace projektu do okamžiku průběžného monitorování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ykazované hodnoty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se musí opírat o průkaznou evidenci vedenou příjemcem nebo partnerem (prezenční listiny, pracovní smlouvy, záznamy apod. – tyto materiály podléhají manuálu publicity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260CD-B1A9-42E9-A7CC-1B2958CB2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329840" y="2329920"/>
            <a:ext cx="6458040" cy="34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ásady při vykazování M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věřitelnost indikátorů –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jemce je povinen v MZ popsat a doložit zdroj, ze kterého lze ověřit splnění indikátoru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Dělení indikátorů –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kladní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monitorovací indikátory se mohou dále dělit pro podrobnější sledování dopadu projektu (např. na muže a ženy, kde součet dává číslo základního indikátoru, Počet nově vytvořených /inovovaných produktů s komponentou ICT či s komponentou ŽP, kde se součet nemusí rovnat základnímu indikátoru – počet nově vytvořených/inovovaných produktů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ledovaná hodnota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je vždy průběžná a kumulativní tj. vyjadřuje celkový počet za dosavadní průběh projektu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5389B-0F36-476B-B202-C1F9D67F4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329840" y="2323800"/>
            <a:ext cx="645804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řehled MI pro OP 1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07.41.00 Počet podpořených osob - celkem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celkový počet osob z cílových skupin, které byly vzdělávané v rámci projektu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z toho 07.41.14 Počet podpořených osob v počátečním vzdělávání celkem – dětí, žáků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z celkového počtu podpořených osob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07.41.15 – chlapci, 07.41.16 - dívk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z toho 07.41.65 Počet podpořených osob – pracovníků v dalším vzdělá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z celkového počtu podpořených osob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07.41.66 – muži, 07.41.67 - že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992C7-D88B-4C7F-9ED8-94997D134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323800"/>
            <a:ext cx="645804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řehled MI pro OP 1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07.41.20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čet podpořených osob – poskytovatelé služeb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osoby, které v rámci projektu poskytují vzdělávací a se vzděláváním související služby cílové skupině –  např. pedagogický pracovník, lektor, školitel, tvůrce výukových materiálů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součástí indikátoru 07.41.00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D84B8-7514-440E-B8AF-17C71D213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Vztahy a povinnosti příjemce vůči cílovým skupiná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323800"/>
            <a:ext cx="645804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řehled MI pro OP 1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06.43.10 Počet nově vytvořených/inovovaných produktů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nově vytvořené/inovované produkty vzniklé v rámci projektu pro cílovou skupinu, počet = počet druhů, souborů, nikoli kusů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z toho 06.43.12 Počet nově vytvořených/inovovaných produktů s komponentou ŽP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blematice ŽP věnováno min. 15 – 20 % výuky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z toho 06.43.13 Počet nově vytvořených/inovovaných produktů s komponentou ICT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blematice ICT věnováno min. 40 hodin výuky)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F61AD-7396-4B79-B9E1-86A7F65FE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9E092-6229-4D50-A418-A082932D6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228600" y="987480"/>
          <a:ext cx="8458200" cy="4937040"/>
        </p:xfrm>
        <a:graphic>
          <a:graphicData uri="http://schemas.openxmlformats.org/drawingml/2006/table">
            <a:tbl>
              <a:tblPr/>
              <a:tblGrid>
                <a:gridCol w="1481040"/>
                <a:gridCol w="830520"/>
                <a:gridCol w="496800"/>
                <a:gridCol w="496800"/>
                <a:gridCol w="495360"/>
                <a:gridCol w="496800"/>
                <a:gridCol w="1343160"/>
                <a:gridCol w="371520"/>
                <a:gridCol w="480960"/>
                <a:gridCol w="706320"/>
                <a:gridCol w="630360"/>
                <a:gridCol w="628560"/>
              </a:tblGrid>
              <a:tr h="167760">
                <a:tc gridSpan="1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Příloha č. 1 Monitorovací zprávy OP V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 gridSpan="1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1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1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ITOROVACÍ INDIKÁT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rační číslo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řadové číslo Monitorovací zprá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v ke d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gridSpan="1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 a výsled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ód indikáto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7"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ev indikáto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ěrná jednot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sažená hodno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tomto obdob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k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nl-NL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Je možné přidávat další řádk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dpis oprávněné osob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né od 28. 6. 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 žadatele a příjemce – Monitorovací zpráva a její příloh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ttp://www.msmt.cz/strukturalni-fondy/prehled-a-postup-pri-vykazovani-monitorovacich-indikatoru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s projektovými manažer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4ACE2-6083-466B-87DE-76AE007E6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avidla realizace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29840" y="2171880"/>
            <a:ext cx="645804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jdůležitější dokumenty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ručka pro příjemce finanční podpory z OP VK verze 4 účinná od 1.8.2010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í akt – Rozhodnutí o poskytnutí dotace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etodické dopisy OP VK – uvedené v právním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 nové v případě aktuálního      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řešení konkrétní záležitost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etodika monitorovacích indikátorů – poslední verz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     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ttp://www.msmt.cz/strukturalni-fondy/prehled-a-postup-pri-vykazovani-monitorovacich-indikator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+ platná legislativa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F1F2F-53E1-4B2E-BB65-3EDD4A0A1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799920" y="2171520"/>
            <a:ext cx="78865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algn="just">
              <a:spcBef>
                <a:spcPts val="400"/>
              </a:spcBef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Námitky proti postupu poskytovatele podpory  – možno podat do 15 pracovních dní od okamžiku, kdy se příjemce o tomto postupu prokazatelně dozvěděl písemným vyrozumění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00"/>
              </a:spcBef>
              <a:spcAft>
                <a:spcPts val="850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Zaslat 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00"/>
              </a:spcBef>
              <a:spcAft>
                <a:spcPts val="850"/>
              </a:spcAft>
              <a:buClr>
                <a:srgbClr val="2a62a8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na odbor </a:t>
            </a:r>
            <a:r>
              <a:rPr b="1" i="1" lang="cs-CZ" sz="1600" spc="-1" strike="noStrike">
                <a:solidFill>
                  <a:srgbClr val="2a62a8"/>
                </a:solidFill>
                <a:latin typeface="Helvetica CE"/>
              </a:rPr>
              <a:t>46 CERA – Implementace projektů strukturálních fondů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00"/>
              </a:spcBef>
              <a:spcAft>
                <a:spcPts val="850"/>
              </a:spcAft>
              <a:buClr>
                <a:srgbClr val="2a62a8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pokud nebudete spokojeni s řešením vaší námitky  odborem 46, můžete se poté obrátit na odbor </a:t>
            </a:r>
            <a:r>
              <a:rPr b="1" i="1" lang="cs-CZ" sz="1600" spc="-1" strike="noStrike">
                <a:solidFill>
                  <a:srgbClr val="2a62a8"/>
                </a:solidFill>
                <a:latin typeface="Helvetica CE"/>
              </a:rPr>
              <a:t>41 – Odbor řízení OP VK</a:t>
            </a: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, který provede prošetře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Bef>
                <a:spcPts val="400"/>
              </a:spcBef>
              <a:spcAft>
                <a:spcPts val="850"/>
              </a:spcAft>
              <a:buClr>
                <a:srgbClr val="2a62a8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Námitka či její prošetření, by mělo být provedeno během 10 pracovních dní a do 5 pracovních dní od ukončení prověření odesláno vyrozumě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2a62a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A7983-BC2A-4C33-AC9A-193DD0336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Námitky a jejich řešení</a:t>
            </a:r>
            <a:endParaRPr b="1" lang="en-US" sz="4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277920" y="2171520"/>
            <a:ext cx="84088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algn="just">
              <a:spcBef>
                <a:spcPts val="451"/>
              </a:spcBef>
              <a:spcAft>
                <a:spcPts val="850"/>
              </a:spcAft>
              <a:buClr>
                <a:srgbClr val="2a62a8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914400" algn="just">
              <a:spcAft>
                <a:spcPts val="850"/>
              </a:spcAft>
              <a:buClr>
                <a:srgbClr val="2a62a8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2a62a8"/>
                </a:solidFill>
                <a:latin typeface="Helvetica CE"/>
              </a:rPr>
              <a:t>Příjemce je povinen bezplatně všechny nově vytvořené produkty nebo jejich kopie předat do vlastnictví poskytovatele (MŠMT), který je oprávněn je uchovávat, využívat  zpřístupňovat třetím osobám a </a:t>
            </a:r>
            <a:r>
              <a:rPr b="1" lang="cs-CZ" sz="1800" spc="-1" strike="noStrike">
                <a:solidFill>
                  <a:srgbClr val="2a62a8"/>
                </a:solidFill>
                <a:latin typeface="Helvetica CE"/>
              </a:rPr>
              <a:t>bezplatně  šířit v časově, územně a množstevně neomezeném rozsahu</a:t>
            </a:r>
            <a:r>
              <a:rPr b="0" lang="cs-CZ" sz="2800" spc="-1" strike="noStrike">
                <a:solidFill>
                  <a:srgbClr val="2a62a8"/>
                </a:solidFill>
                <a:latin typeface="Helvetica C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lvl="1" marL="514440" algn="just">
              <a:spcAft>
                <a:spcPts val="85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2a62a8"/>
                </a:solidFill>
                <a:latin typeface="Helvetica CE"/>
              </a:rPr>
              <a:t>Příjemce je povinen zajistit smluvně nebo jiným vhodným způsobem oprávnění poskytovatele podpory k výkonu práv užít autorské dílo s nositeli chráněných práv duševního vlastnictví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8723B-24E3-4914-B2FA-1BB32B9D2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utorská práva</a:t>
            </a:r>
            <a:endParaRPr b="1" lang="en-US" sz="4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fc000"/>
                </a:solidFill>
                <a:latin typeface="Helvetica CE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Marie Kaufn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– oblast podpory 1.1 Zvyšování kvality ve vzdělá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bor  46 - CER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mail: </a:t>
            </a:r>
            <a:r>
              <a:rPr b="0" lang="cs-CZ" sz="1800" spc="-1" strike="noStrike">
                <a:solidFill>
                  <a:srgbClr val="0070c0"/>
                </a:solidFill>
                <a:latin typeface="Helvetica CE"/>
              </a:rPr>
              <a:t>marie.kaufn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EB892-1205-4C05-8CA3-99BF65843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žnost zasílání aktualit OP VK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a této adrese se můžete přihlásit k emailovému odebírání  aktualit týkající se ESF a OP 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ttp://www.msmt.cz/strukturalni-fondy/zasilani-informaci-registr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0A8DD-BF1D-4FBF-844F-2B4902388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Délka trvání projekt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vedena v právním a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jdéle 36 měsíců od přijetí právního aktu s nejzazším datem ukončení 30. 6. 2015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aháj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akceptace Rozhodnutí o poskytnutí dot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bo datum uvedené v právním aktu –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le toho,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o nastane později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uvedené v právním a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ECE10-F36E-4F21-A6BD-DC8B9541E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měna data ukonč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statná změna projektu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á pouze v řádně odůvodněných a schválených případech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ůsobilé výdaje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 data zahájení projektu do data ukonč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 datu ukončení pouze výdaje bezprostředně související s realizací projektu např. audit projektu, mzdy pracovníků projektu, kteří uzavírají projek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35F57-B0F5-4766-9B5C-2CB43946C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371600" y="2408040"/>
            <a:ext cx="628344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kud příjemce nerealizuje projekt v souladu se smluvními podmínkami - výše možné udělené sankce je uvedena v právním a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9B36D-BEFE-4236-AB85-7B903D1EE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Ukončení projektu v jiném režim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29840" y="2171520"/>
            <a:ext cx="645804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 příjemc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ísemně k rukám poskytovatele formou návrhu na změnu právního aktu s novým datem ukončen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nejvýše dvouměsíční lhůtou uzavř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akceptace změnového právního aktu (rozhodnutí o změně Rozhodnutí) začíná běžet lhůta pro uzavření aktivit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financování ex-ante –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musí být odděleně evidovány výdaje uskutečněné po dni odeslání návrhu na ukončení projektu – vyúčtování musí bát řádně zdůvodněno.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využité prostředky ve prospěch projektu musí být vráceny do 30 pracovních dnů po ukonč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D665F-94CB-4025-8368-37F083A4E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Ukončení projektu v jiném režim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Neoprávněné předčasné 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porušení podmínek právního aktu (nedodržení podmínek pro předčasné ukončení projektu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suzuje se jako nesrovnalost a podezření na porušení rozpočtové kázně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 je povinen vrátit neoprávněně vyplacené prostředky v plné výši a ve lhůtě stanovené poskytovatelem nebo příslušným FÚ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B60A9-3138-40C9-955C-30B9171F7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Ukončení projektu v jiném režim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ozastavení podpory z OP 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skytovatel podpory je oprávněn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ontrolovat podezření na porušení rozpočtové kázně či rozpočtových pravidel nebo podezření na porušení dalších povinností uvedených v právním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zvat příjemce k okamžité nápravě zjištěných nedostatků a stanovit lhůty k náprav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eventivně pozastavit platby příjemci podpo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E9050-0BDE-415D-BB2B-FE8A3FB56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Marie Kaufnerová</cp:lastModifiedBy>
  <dcterms:modified xsi:type="dcterms:W3CDTF">2010-09-16T13:04:11Z</dcterms:modified>
  <cp:revision>181</cp:revision>
  <dc:subject/>
  <dc:title>Titulní strana – Titulek</dc:title>
</cp:coreProperties>
</file>